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0540-CA1A-4AF3-9DFF-F6C5CD7B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3A20-D7E5-41D3-B995-D702E13E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3C74-2AC2-4B4B-8F0A-F5F50700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B48-EC4A-4BB4-8CE9-5F7BCD9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1F7-78EF-4F36-9541-11E001C4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42F3-C796-4320-97BD-4A25C245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0F9-EB91-4073-9C2F-D44ABD70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C51-186B-4CE6-8CC7-5D89B28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A95-3456-4805-88A9-6749493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B81-FFF6-43ED-B9C1-D1072647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725-7D41-4A2E-B447-A1C2BD89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2A8-0427-4B88-89A7-A40F70B9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2471-0D00-4E62-989B-B303A32DF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lackadder ITC"/>
              </a:rPr>
              <a:t>Kristen Wrigh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Agency FB"/>
              </a:rPr>
              <a:t>Frie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2060640"/>
            <a:ext cx="8569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MS Mincho"/>
              </a:rPr>
              <a:t>Alex,Meagan,Emily,Ciara,Chloe,Tash,Jessica,Ava,Temp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33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606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I have………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ff"/>
                </a:solidFill>
                <a:latin typeface="Bradley Hand ITC"/>
              </a:rPr>
              <a:t>Pet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Kahootz Amish"/>
              </a:rPr>
              <a:t>2 F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Edwardian Script ITC"/>
              </a:rPr>
              <a:t>1 Do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S Mincho"/>
              </a:rPr>
              <a:t>1 Rabb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omic"/>
              </a:rPr>
              <a:t>And HAD 1 Guineap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34:00Z</dcterms:created>
  <dc:creator>Admin</dc:creator>
  <dc:description/>
  <dc:language>en-US</dc:language>
  <cp:lastModifiedBy>Admin</cp:lastModifiedBy>
  <dcterms:modified xsi:type="dcterms:W3CDTF">2009-02-12T22:49:35Z</dcterms:modified>
  <cp:revision>2</cp:revision>
  <dc:subject/>
  <dc:title>Kristen Wright</dc:title>
</cp:coreProperties>
</file>